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015-42D0-45D0-AA38-4A113D7C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FB5-3CAD-4501-BCE0-DBBDE02A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CCB-D09D-4184-B47A-312BCDBB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9E9-F6D7-4D4D-A7C2-BFABD7BC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CDF2-EB07-403A-90D4-5EFB8523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0D81-BFCC-49C3-BB43-6DBB1616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10E0-F0AD-47F7-B839-DC5F05A8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4A87-CE99-4352-990E-58922F67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7B20-A28C-46C8-8ECD-8477E06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CDF5-E02B-488E-91A0-6E2C6727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D80C-FC66-4399-A3A9-8B92EE47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EA9-6B0C-45C3-8C2C-0A48ADAC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3D6E-D679-4139-8D67-26C0E5FD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DBBE-6036-41C5-AE3D-8979F7A1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9F8D-C86A-4F46-B0D1-E5FA75F2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FC73-B2E8-486D-9A26-CD0BA36E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F045-048D-4EB2-B1A3-B56FBAB3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856-44BC-4256-BF80-C30B6488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760-0FD8-483B-A306-1751463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280-CAE3-40C8-A6D3-9766A7CD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F60-7897-401C-B85B-FFEC95A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DB8-B9AD-4D10-ACB2-81222756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084-A74B-4C55-8017-8273FFBD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2A9-4A56-43DC-ADAE-08FBAC54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762E-6F4F-41F3-B412-429CBF239052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8884-3FBB-4D68-BBB0-5A9C32A7F77E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92468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737560" y="746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puerqu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486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burr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3798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gall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Qui-qui-ri-qui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414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610480" cy="2209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pat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uac Cuac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37339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perr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Gua Gua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438280" y="3352680"/>
            <a:ext cx="40388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9480" y="2109960"/>
            <a:ext cx="7925040" cy="47480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gat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iau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590920" y="2895480"/>
            <a:ext cx="39402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FI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poll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Pío Pío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4290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 vaquit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uuu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58672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tem User</cp:lastModifiedBy>
  <dcterms:modified xsi:type="dcterms:W3CDTF">2011-05-02T21:38:24Z</dcterms:modified>
  <cp:revision>26</cp:revision>
  <dc:subject/>
  <dc:title>La vaca</dc:title>
</cp:coreProperties>
</file>